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D2CB0-B738-46C7-8A27-2EFB417C3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15C89-CB62-4893-9DF4-397F95869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161C2-23D7-402D-B021-BF0D4FE92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06E30-CD00-4CBA-AD12-406D850F7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88782F-92A5-431C-BD81-B432F0DFE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A1222-BA52-4BED-9401-BB763BDEE7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933CD-FC9F-4FAA-A327-D166745A3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7AA30-7B76-4E78-8908-1E829584F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629685-27FB-4514-A062-3109C8F5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AC08F-AB34-4D12-B5D7-838B93F82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237AB-4157-4E4F-9738-C4FD90235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C617-EBBD-4309-B159-D800CBC84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2C6D3-0D1C-4C63-B4A9-10F671534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6873E-67B5-4BF0-97D5-C918B10A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9A558-2035-4AF3-BB9B-E2D35B3C8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AB4C0-8E9D-430A-BCE2-3438B38B5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6AB295-05F9-472D-B9CA-FC57247FEA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FC5EE-C8F8-4432-B373-C545996B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27949-590E-453B-A14F-D7F627C7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FC64A-2CB5-4518-BD5E-E98EC8674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95D1B-D541-413E-AD50-6E8F5A3A4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B582-FE96-4D7F-8586-D028FB61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6A6B1-0523-47C6-9DDE-447CF8D70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5139C-2322-467D-AB95-8F7C9BF2D7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38DDC-394A-49FA-AF37-0A0DE8C1D2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FD676-64D3-42DF-BF7C-BF73D446C0D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s.wikipedia.org/wiki/Base_de_dato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edalus.es/AreasMDFase1-E.php" TargetMode="External"/><Relationship Id="rId2" Type="http://schemas.openxmlformats.org/officeDocument/2006/relationships/hyperlink" Target="http://www.daedalus.es/AreasMDFase2-E.php" TargetMode="External"/><Relationship Id="rId3" Type="http://schemas.openxmlformats.org/officeDocument/2006/relationships/hyperlink" Target="http://www.daedalus.es/AreasMDFase3-E.php" TargetMode="External"/><Relationship Id="rId4" Type="http://schemas.openxmlformats.org/officeDocument/2006/relationships/hyperlink" Target="http://www.daedalus.es/AreasMDFase4-E.php"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Juego_de_cero_jugadores" TargetMode="External"/><Relationship Id="rId2" Type="http://schemas.openxmlformats.org/officeDocument/2006/relationships/hyperlink" Target="http://es.wikipedia.org/wiki/Tablero_de_juego" TargetMode="External"/><Relationship Id="rId3" Type="http://schemas.openxmlformats.org/officeDocument/2006/relationships/hyperlink" Target="http://es.wikipedia.org/wiki/Turno" TargetMode="External"/><Relationship Id="rId4" Type="http://schemas.openxmlformats.org/officeDocument/2006/relationships/hyperlink" Target="http://www.granvino.com/jam/stuff/juegos/gamoliyas/spanish/index.htm" TargetMode="External"/><Relationship Id="rId5" Type="http://schemas.openxmlformats.org/officeDocument/2006/relationships/hyperlink" Target="http://www.granvino.com/jam/stuff/juegos/gamoliyas/spanish/index.htm" TargetMode="External"/><Relationship Id="rId6" Type="http://schemas.openxmlformats.org/officeDocument/2006/relationships/hyperlink" Target="http://www.granvino.com/jam/stuff/juegos/gamoliyas/spanish/index.htm" TargetMode="External"/><Relationship Id="rId7" Type="http://schemas.openxmlformats.org/officeDocument/2006/relationships/hyperlink" Target="http://www.granvino.com/jam/stuff/juegos/gamoliyas/spanish/index.htm" TargetMode="External"/><Relationship Id="rId8" Type="http://schemas.openxmlformats.org/officeDocument/2006/relationships/hyperlink" Target="http://www.granvino.com/jam/stuff/juegos/gamoliyas/spanish/index.htm" TargetMode="External"/><Relationship Id="rId9" Type="http://schemas.openxmlformats.org/officeDocument/2006/relationships/hyperlink" Target="http://www.granvino.com/jam/stuff/juegos/gamoliyas/spanish/index.htm" TargetMode="External"/><Relationship Id="rId10" Type="http://schemas.openxmlformats.org/officeDocument/2006/relationships/hyperlink" Target="http://www.granvino.com/jam/stuff/juegos/gamoliyas/spanish/index.htm" TargetMode="External"/><Relationship Id="rId11" Type="http://schemas.openxmlformats.org/officeDocument/2006/relationships/hyperlink" Target="http://www.granvino.com/jam/stuff/juegos/gamoliyas/spanish/index.htm" TargetMode="External"/><Relationship Id="rId12" Type="http://schemas.openxmlformats.org/officeDocument/2006/relationships/hyperlink" Target="http://www.granvino.com/jam/stuff/juegos/gamoliyas/spanish/index.htm" TargetMode="External"/><Relationship Id="rId13" Type="http://schemas.openxmlformats.org/officeDocument/2006/relationships/hyperlink" Target="http://www.granvino.com/jam/stuff/juegos/gamoliyas/spanish/index.htm" TargetMode="External"/><Relationship Id="rId14" Type="http://schemas.openxmlformats.org/officeDocument/2006/relationships/hyperlink" Target="http://www.granvino.com/jam/stuff/juegos/gamoliyas/spanish/index.htm" TargetMode="External"/><Relationship Id="rId15" Type="http://schemas.openxmlformats.org/officeDocument/2006/relationships/hyperlink" Target="http://www.granvino.com/jam/stuff/juegos/gamoliyas/spanish/index.htm" TargetMode="External"/><Relationship Id="rId16" Type="http://schemas.openxmlformats.org/officeDocument/2006/relationships/hyperlink" Target="http://www.granvino.com/jam/stuff/juegos/gamoliyas/spanish/index.htm"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7989840" cy="324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Vida Artificial</a:t>
            </a:r>
            <a:br>
              <a:rPr sz="4800"/>
            </a:b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042560" y="2997000"/>
            <a:ext cx="7448760" cy="26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io-informática 5º(I.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rnesto García Gil</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395280" y="1197000"/>
            <a:ext cx="8372520" cy="5381640"/>
          </a:xfrm>
          <a:prstGeom prst="rect">
            <a:avLst/>
          </a:prstGeom>
          <a:ln w="0">
            <a:noFill/>
          </a:ln>
        </p:spPr>
      </p:pic>
      <p:sp>
        <p:nvSpPr>
          <p:cNvPr id="117" name="PlaceHolder 2"/>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delo na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mer algoritmo basado en la optimización mediante colonias de hormigas fue aplicado al Problema del Viajante </a:t>
            </a:r>
            <a:endParaRPr b="0" lang="en-US" sz="2000" spc="-1" strike="noStrike">
              <a:solidFill>
                <a:srgbClr val="ffffff"/>
              </a:solidFill>
              <a:latin typeface="Arial"/>
            </a:endParaRPr>
          </a:p>
        </p:txBody>
      </p:sp>
      <p:pic>
        <p:nvPicPr>
          <p:cNvPr id="119" name="" descr=""/>
          <p:cNvPicPr/>
          <p:nvPr/>
        </p:nvPicPr>
        <p:blipFill>
          <a:blip r:embed="rId1"/>
          <a:stretch/>
        </p:blipFill>
        <p:spPr>
          <a:xfrm>
            <a:off x="108000" y="1773360"/>
            <a:ext cx="8677080" cy="402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oblemas a resolver mediante CDH</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lgoritmos basados en colonias de hormigas son muy útiles para resolver problema como :</a:t>
            </a:r>
            <a:endParaRPr b="0" lang="en-US" sz="32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atoria.</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gnación de recursos.</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tas de transporte.</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aquello en donde se necesita minimizar o maximizar un resultado.</a:t>
            </a:r>
            <a:endParaRPr b="0" lang="en-US" sz="20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general cualquier problemas de optimización</a:t>
            </a:r>
            <a:endParaRPr b="0" lang="en-US" sz="32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nería de datos, su importancia en la simulación</a:t>
            </a:r>
            <a:endParaRPr b="0" lang="en-US" sz="4000" spc="-1" strike="noStrike">
              <a:solidFill>
                <a:srgbClr val="b2b2b2"/>
              </a:solidFill>
              <a:latin typeface="Arial"/>
            </a:endParaRPr>
          </a:p>
        </p:txBody>
      </p:sp>
      <p:sp>
        <p:nvSpPr>
          <p:cNvPr id="123"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ndo se crean simulaciones, se genera una cantidad inmensa de informació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inería de datos nos ayuda, a extraer información útil de un gran volumen de dato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l nombre de </a:t>
            </a:r>
            <a:r>
              <a:rPr b="1" lang="en-US" sz="2800" spc="-1" strike="noStrike">
                <a:solidFill>
                  <a:srgbClr val="ffffff"/>
                </a:solidFill>
                <a:latin typeface="Arial"/>
              </a:rPr>
              <a:t>minería de datos</a:t>
            </a:r>
            <a:r>
              <a:rPr b="0" lang="en-US" sz="2800" spc="-1" strike="noStrike">
                <a:solidFill>
                  <a:srgbClr val="ffffff"/>
                </a:solidFill>
                <a:latin typeface="Arial"/>
              </a:rPr>
              <a:t> se engloban un conjunto de técnicas encaminadas a la </a:t>
            </a:r>
            <a:r>
              <a:rPr b="1" lang="en-US" sz="2800" spc="-1" strike="noStrike">
                <a:solidFill>
                  <a:srgbClr val="ffffff"/>
                </a:solidFill>
                <a:latin typeface="Arial"/>
              </a:rPr>
              <a:t>extracción de conocimiento procesable, implícito en las </a:t>
            </a:r>
            <a:r>
              <a:rPr b="0" lang="en-US" sz="2800" spc="-1" strike="noStrike" u="sng">
                <a:solidFill>
                  <a:srgbClr val="ffffcc"/>
                </a:solidFill>
                <a:uFillTx/>
                <a:latin typeface="Arial"/>
                <a:hlinkClick r:id="rId1"/>
              </a:rPr>
              <a:t>bases de dato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Ejemplos de uso de la minería de datos</a:t>
            </a:r>
            <a:br>
              <a:rPr sz="4000"/>
            </a:b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ción de </a:t>
            </a:r>
            <a:r>
              <a:rPr b="1" lang="en-US" sz="2800" spc="-1" strike="noStrike">
                <a:solidFill>
                  <a:srgbClr val="ffffff"/>
                </a:solidFill>
                <a:latin typeface="Arial"/>
              </a:rPr>
              <a:t>hábitos de compra en supermercado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ones de fuga</a:t>
            </a:r>
            <a:r>
              <a:rPr b="0" lang="en-US" sz="2800" spc="-1" strike="noStrike">
                <a:solidFill>
                  <a:srgbClr val="ffffff"/>
                </a:solidFill>
                <a:latin typeface="Arial"/>
              </a:rPr>
              <a:t> : existe un comprensible interés en detectar cuanto antes aquellos clientes que puedan estar pensando en rescindir sus contratos para, posiblemente, pasarse a la competenci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caso análogo es el de la detección de transacciones de blanqueo de dinero o de </a:t>
            </a:r>
            <a:r>
              <a:rPr b="1" lang="en-US" sz="2800" spc="-1" strike="noStrike">
                <a:solidFill>
                  <a:srgbClr val="ffffff"/>
                </a:solidFill>
                <a:latin typeface="Arial"/>
              </a:rPr>
              <a:t>fraude</a:t>
            </a:r>
            <a:r>
              <a:rPr b="0" lang="en-US" sz="2800" spc="-1" strike="noStrike">
                <a:solidFill>
                  <a:srgbClr val="ffffff"/>
                </a:solidFill>
                <a:latin typeface="Arial"/>
              </a:rPr>
              <a:t> en el uso de tarjetas de crédito o de servicios de telefonía móv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Fases de un Proyecto de Minería de Datos </a:t>
            </a:r>
            <a:endParaRPr b="0" lang="en-US" sz="40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roceso de minería de datos pasa por las siguientes fases: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1"/>
              </a:rPr>
              <a:t>Filtrado de datos</a:t>
            </a:r>
            <a:r>
              <a:rPr b="0" lang="en-US" sz="2000" spc="-1" strike="noStrike" u="sng">
                <a:solidFill>
                  <a:srgbClr val="ffffff"/>
                </a:solidFill>
                <a:uFillTx/>
                <a:latin typeface="Arial"/>
              </a:rPr>
              <a:t> se eliminan valores incorrectos, no válidos, desconocidos... según las necesidades y el algoritmo a usar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Selección de Variables</a:t>
            </a:r>
            <a:r>
              <a:rPr b="0" lang="en-US" sz="2000" spc="-1" strike="noStrike" u="sng">
                <a:solidFill>
                  <a:srgbClr val="ffffff"/>
                </a:solidFill>
                <a:uFillTx/>
                <a:latin typeface="Arial"/>
              </a:rPr>
              <a:t> La selección de características reduce el tamaño de los datos eligiendo las variables más influyentes en el problema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3"/>
              </a:rPr>
              <a:t>Extracción de Conocimiento</a:t>
            </a:r>
            <a:r>
              <a:rPr b="0" lang="en-US" sz="2000" spc="-1" strike="noStrike" u="sng">
                <a:solidFill>
                  <a:srgbClr val="ffffff"/>
                </a:solidFill>
                <a:uFillTx/>
                <a:latin typeface="Arial"/>
              </a:rPr>
              <a:t> se obtiene un modelo de conocimiento, que representa patrones de comportamiento observados en los valores de las variables del problema o relaciones de asociación entre dich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4"/>
              </a:rPr>
              <a:t>Interpretación y Evaluación</a:t>
            </a:r>
            <a:r>
              <a:rPr b="0" lang="en-US" sz="2000" spc="-1" strike="noStrike" u="sng">
                <a:solidFill>
                  <a:srgbClr val="ffffff"/>
                </a:solidFill>
                <a:uFillTx/>
                <a:latin typeface="Arial"/>
              </a:rPr>
              <a:t> Una vez obtenido el modelo, se debe proceder a su validación, comprobando que las conclusiones que arroja son válidas y suficientemente satisfactorias </a:t>
            </a:r>
            <a:endParaRPr b="0" lang="en-US" sz="2000" spc="-1" strike="noStrike">
              <a:solidFill>
                <a:srgbClr val="ffffff"/>
              </a:solidFill>
              <a:latin typeface="Arial"/>
            </a:endParaRPr>
          </a:p>
        </p:txBody>
      </p:sp>
      <p:pic>
        <p:nvPicPr>
          <p:cNvPr id="128" name="" descr=""/>
          <p:cNvPicPr/>
          <p:nvPr/>
        </p:nvPicPr>
        <p:blipFill>
          <a:blip r:embed="rId5"/>
          <a:stretch/>
        </p:blipFill>
        <p:spPr>
          <a:xfrm>
            <a:off x="900000" y="5373720"/>
            <a:ext cx="6696360" cy="18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Minería de datos y otras disciplinas análogas</a:t>
            </a:r>
            <a:br>
              <a:rPr sz="4000"/>
            </a:br>
            <a:endParaRPr b="0" lang="en-US" sz="40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 difícil definir las fronteras</a:t>
            </a:r>
            <a:r>
              <a:rPr b="0" lang="en-US" sz="2800" spc="-1" strike="noStrike">
                <a:solidFill>
                  <a:srgbClr val="ffffff"/>
                </a:solidFill>
                <a:latin typeface="Arial"/>
              </a:rPr>
              <a:t> existentes entre la minería de datos y disciplinas análogas, como pueden serlo la estadística, la inteligencia artificial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hecho es, que en la práctica la totalidad de los modelos y algoritmos de uso general en minería de datos redes neuronales, árboles de regresión y clasificación, modelos logísticos, análisis de componentes principales, etc.— gozan de una tradición relativamente larga en otros camp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Estadística</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e varianza, mediante el cual se contrasta la existencia de diferencias significativas entre las medidas de una o más variables continuas en grupo de población distint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i cuadrado: por medio del cual se realiza el contraste la hipótesis de dependencia entre variab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iscriminante: permite la clasificación de individuos en grupos que previamente se han establecid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ies de tiempo: permite el estudio de la evolución de una variable a través del tiempo para, a partir de ese conoc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Informática</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genéticos: Son métodos numéricos de optimización, en los que aquella variable o variables que se pretenden optimizar junto con las variables de estudio constituyen un segmento de informació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s Expertos: Son sistemas que han sido creados a partir de reglas prácticas extraídas del conocimiento de expert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s neuronales: Genéricamente, son métodos de proceso numérico en paralelo, en el que las variables interactúan mediante transformaciones lineales o no lineales, hasta obtener unas salid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da artificial</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1" lang="es-ES_tradnl" sz="1800" spc="-1" strike="noStrike">
                <a:solidFill>
                  <a:srgbClr val="ffffff"/>
                </a:solidFill>
                <a:latin typeface="Arial"/>
              </a:rPr>
              <a:t>vida artificial</a:t>
            </a:r>
            <a:r>
              <a:rPr b="0" lang="es-ES_tradnl" sz="1800" spc="-1" strike="noStrike">
                <a:solidFill>
                  <a:srgbClr val="ffffff"/>
                </a:solidFill>
                <a:latin typeface="Arial"/>
              </a:rPr>
              <a:t> es el estudio de la vida y de los sistemas artificiales que exhiben propiedades similares a los seres vivos, a través de modelos de simulación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investigadores de vida artificiales se han dividido a menudo en dos grupos principales (aunque otros clasificaciones son posibles): </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ura/fuerte manifiesta que "la vida es un proceso que se puede conseguir fuera de cualquier medio particular". (John Von Neumann). Notablemente, Tom Ray declaraba que su programa Tierra no estaba simulando vida en un ordenador, sino la estaba sintetizando.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ébil niega la posibilidad de generar un "proceso de vida" fuera de una solución química basada en el carbono. Sus investigadores intentan en cambio imitar procesos de vida por entender aspectos de fenómenos sencillos. La manera habitual es a través de un modelo basado en agentes, que normalmente da una solución posible mínima.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campo se caracteriza por el uso extenso de programas informáticos y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mulaciones que incluyen cálculo evolutivo (algoritmos evolutivos, algoritmo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genéticos programación genética, </a:t>
            </a:r>
            <a:r>
              <a:rPr b="1" lang="es-ES_tradnl" sz="1600" spc="-1" strike="noStrike" u="sng">
                <a:solidFill>
                  <a:srgbClr val="ffffff"/>
                </a:solidFill>
                <a:uFillTx/>
                <a:latin typeface="Arial"/>
              </a:rPr>
              <a:t>inteligencia de enjambre, optimización de colonias de hormigas</a:t>
            </a:r>
            <a:r>
              <a:rPr b="0" lang="es-ES_tradnl"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tes de los computador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finales de los años 40, Von Neumann hizo una conferencia titulada “La Teoría General y Lógica de Autómatas". Definía un "autómata" como cualquier máquina cuyo comportamiento provenía de la lógica, paso a paso, combinando información desde el ambiente y su propia programación, y decía que al final se encontrarían organismos naturales que siguieran reglas simples similares. También habló sobre la idea de máquinas que se auto dupl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fesor de Cambridge John Horton Conway inventó el autómata celular más famoso de los años 60. Lo denominó el </a:t>
            </a:r>
            <a:r>
              <a:rPr b="1" i="1" lang="es-ES_tradnl" sz="2000" spc="-1" strike="noStrike" u="sng">
                <a:solidFill>
                  <a:srgbClr val="ffffff"/>
                </a:solidFill>
                <a:uFillTx/>
                <a:latin typeface="Arial"/>
              </a:rPr>
              <a:t>Juego de la Vida</a:t>
            </a:r>
            <a:r>
              <a:rPr b="0" lang="es-ES_tradnl" sz="2000" spc="-1" strike="noStrike">
                <a:solidFill>
                  <a:srgbClr val="ffffff"/>
                </a:solidFill>
                <a:latin typeface="Arial"/>
              </a:rPr>
              <a:t>, y consiguió publicidad a través de la columna de Martin Gardner en la revista Scientific Amer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 juego de la vida</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juego de la vida es en realidad un </a:t>
            </a:r>
            <a:r>
              <a:rPr b="0" lang="es-ES_tradnl" sz="1800" spc="-1" strike="noStrike" u="sng">
                <a:solidFill>
                  <a:srgbClr val="ffffcc"/>
                </a:solidFill>
                <a:uFillTx/>
                <a:latin typeface="Arial"/>
                <a:hlinkClick r:id="rId1"/>
              </a:rPr>
              <a:t>juego de cero jugadores</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a:t>
            </a:r>
            <a:r>
              <a:rPr b="0" lang="es-ES_tradnl" sz="1800" spc="-1" strike="noStrike" u="sng">
                <a:solidFill>
                  <a:srgbClr val="ffffcc"/>
                </a:solidFill>
                <a:uFillTx/>
                <a:latin typeface="Arial"/>
                <a:hlinkClick r:id="rId2"/>
              </a:rPr>
              <a:t>tablero de juego</a:t>
            </a:r>
            <a:r>
              <a:rPr b="0" lang="es-ES_tradnl" sz="1800" spc="-1" strike="noStrike">
                <a:solidFill>
                  <a:srgbClr val="ffffff"/>
                </a:solidFill>
                <a:latin typeface="Arial"/>
              </a:rPr>
              <a:t>" es una malla formada por cuadrados ("células") que se extiende por el infinito en todas las direcciones. Cada célula tiene 8 células vecinas, que son las que están próximas a ella, incluso en las diagonales. Las células tienen dos estados: están "vivas" o "muertas" (o "encendidas" y "apagadas"). El estado de la malla evoluciona a lo largo de unidades de tiempo discretas (se podría decir que por </a:t>
            </a:r>
            <a:r>
              <a:rPr b="0" lang="es-ES_tradnl" sz="1800" spc="-1" strike="noStrike" u="sng">
                <a:solidFill>
                  <a:srgbClr val="ffffcc"/>
                </a:solidFill>
                <a:uFillTx/>
                <a:latin typeface="Arial"/>
                <a:hlinkClick r:id="rId3"/>
              </a:rPr>
              <a:t>turnos</a:t>
            </a:r>
            <a:r>
              <a:rPr b="0" lang="es-ES_tradnl" sz="1800" spc="-1" strike="noStrike">
                <a:solidFill>
                  <a:srgbClr val="ffffff"/>
                </a:solidFill>
                <a:latin typeface="Arial"/>
              </a:rPr>
              <a:t>). El estado de todas las células se tiene en cuenta para calcular el estado de las mismas al turno siguiente. Todas las células se actualizan simultáneamen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muerta con exactamente 3 celdas vecinas vivas "nace" (al turno siguiente estará viva).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viva con 2 o 3 celdas vecinas vivas sigue viva, en otro caso muere o permanece muerta ( por "soledad" o "superpobl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Arial"/>
                <a:hlinkClick r:id="rId4"/>
              </a:rPr>
              <a:t>http</a:t>
            </a:r>
            <a:r>
              <a:rPr b="0" lang="es-ES_tradnl" sz="1800" spc="-1" strike="noStrike" u="sng">
                <a:solidFill>
                  <a:srgbClr val="ffffcc"/>
                </a:solidFill>
                <a:uFillTx/>
                <a:latin typeface="Arial"/>
                <a:hlinkClick r:id="rId5"/>
              </a:rPr>
              <a:t>://</a:t>
            </a:r>
            <a:r>
              <a:rPr b="0" lang="es-ES_tradnl" sz="1800" spc="-1" strike="noStrike" u="sng">
                <a:solidFill>
                  <a:srgbClr val="ffffcc"/>
                </a:solidFill>
                <a:uFillTx/>
                <a:latin typeface="Arial"/>
                <a:hlinkClick r:id="rId6"/>
              </a:rPr>
              <a:t>www.granvino.com</a:t>
            </a:r>
            <a:r>
              <a:rPr b="0" lang="es-ES_tradnl" sz="1800" spc="-1" strike="noStrike" u="sng">
                <a:solidFill>
                  <a:srgbClr val="ffffcc"/>
                </a:solidFill>
                <a:uFillTx/>
                <a:latin typeface="Arial"/>
                <a:hlinkClick r:id="rId7"/>
              </a:rPr>
              <a:t>/</a:t>
            </a:r>
            <a:r>
              <a:rPr b="0" lang="es-ES_tradnl" sz="1800" spc="-1" strike="noStrike" u="sng">
                <a:solidFill>
                  <a:srgbClr val="ffffcc"/>
                </a:solidFill>
                <a:uFillTx/>
                <a:latin typeface="Arial"/>
                <a:hlinkClick r:id="rId8"/>
              </a:rPr>
              <a:t>jam</a:t>
            </a:r>
            <a:r>
              <a:rPr b="0" lang="es-ES_tradnl" sz="1800" spc="-1" strike="noStrike" u="sng">
                <a:solidFill>
                  <a:srgbClr val="ffffcc"/>
                </a:solidFill>
                <a:uFillTx/>
                <a:latin typeface="Arial"/>
                <a:hlinkClick r:id="rId9"/>
              </a:rPr>
              <a:t>/</a:t>
            </a:r>
            <a:r>
              <a:rPr b="0" lang="es-ES_tradnl" sz="1800" spc="-1" strike="noStrike" u="sng">
                <a:solidFill>
                  <a:srgbClr val="ffffcc"/>
                </a:solidFill>
                <a:uFillTx/>
                <a:latin typeface="Arial"/>
                <a:hlinkClick r:id="rId10"/>
              </a:rPr>
              <a:t>stuff</a:t>
            </a:r>
            <a:r>
              <a:rPr b="0" lang="es-ES_tradnl" sz="1800" spc="-1" strike="noStrike" u="sng">
                <a:solidFill>
                  <a:srgbClr val="ffffcc"/>
                </a:solidFill>
                <a:uFillTx/>
                <a:latin typeface="Arial"/>
                <a:hlinkClick r:id="rId11"/>
              </a:rPr>
              <a:t>/juegos/</a:t>
            </a:r>
            <a:r>
              <a:rPr b="0" lang="es-ES_tradnl" sz="1800" spc="-1" strike="noStrike" u="sng">
                <a:solidFill>
                  <a:srgbClr val="ffffcc"/>
                </a:solidFill>
                <a:uFillTx/>
                <a:latin typeface="Arial"/>
                <a:hlinkClick r:id="rId12"/>
              </a:rPr>
              <a:t>gamoliyas</a:t>
            </a:r>
            <a:r>
              <a:rPr b="0" lang="es-ES_tradnl" sz="1800" spc="-1" strike="noStrike" u="sng">
                <a:solidFill>
                  <a:srgbClr val="ffffcc"/>
                </a:solidFill>
                <a:uFillTx/>
                <a:latin typeface="Arial"/>
                <a:hlinkClick r:id="rId13"/>
              </a:rPr>
              <a:t>/</a:t>
            </a:r>
            <a:r>
              <a:rPr b="0" lang="es-ES_tradnl" sz="1800" spc="-1" strike="noStrike" u="sng">
                <a:solidFill>
                  <a:srgbClr val="ffffcc"/>
                </a:solidFill>
                <a:uFillTx/>
                <a:latin typeface="Arial"/>
                <a:hlinkClick r:id="rId14"/>
              </a:rPr>
              <a:t>spanish</a:t>
            </a:r>
            <a:r>
              <a:rPr b="0" lang="es-ES_tradnl" sz="1800" spc="-1" strike="noStrike" u="sng">
                <a:solidFill>
                  <a:srgbClr val="ffffcc"/>
                </a:solidFill>
                <a:uFillTx/>
                <a:latin typeface="Arial"/>
                <a:hlinkClick r:id="rId15"/>
              </a:rPr>
              <a:t>/</a:t>
            </a:r>
            <a:r>
              <a:rPr b="0" lang="es-ES_tradnl" sz="1800" spc="-1" strike="noStrike" u="sng">
                <a:solidFill>
                  <a:srgbClr val="ffffcc"/>
                </a:solidFill>
                <a:uFillTx/>
                <a:latin typeface="Arial"/>
                <a:hlinkClick r:id="rId16"/>
              </a:rPr>
              <a:t>index.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970s-1980s</a:t>
            </a: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hristopher Langton fue un investigador poco convencional, con una carrera académica sin distinciones que lo llevó a conseguir un trabajo programando mainframes para un hospital. Lo cautivó el Juego de la Vida de Conway, y empezó a perseguir la idea que una computadora puede emular criaturas vivas. Tras años de estudio ,  empezó a intentar actualizar el autómata celular de Von Neumann y el trabajo de Edgar F. Codd, que simplificó el de veintinueve estados de Von Neumann a uno con sólo ocho estados. Consiguió el primer organismo computacional auto replicado en octubre de 1979, usando simplemente un ordenador de sobremesa Apple II. Entró al programa de graduados del Logic of Computers Group el año 1982, a los 33 años, y ayudó a crear una nueva disciplin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uncio oficial de Langton de la conferencia "Artificial Life I" fue la primera descripción de un campo que avance casi no existí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imera descripción de vida artificial, conferencia de Langton</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 vida artificial es el estudio de sistemas artificiales que exhiben comportamientos característicos de sistemas vivos naturales. Es la búsqueda de una explicación de la vida en cualquiera de sus posibles manifestaciones, sin restricciones a un ejemplo particular que haya evolucionado en la Tierra. Están incluidos experimentos biológicos y químicos, simulaciones por ordenador, e iniciativas puramente teóricas. Los procesos que ocurren en una escala molecular, social y evolutiva son objeto de investigación. El objetivo final es extraer la forma lógica de los sistemas vivient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imulación de modelos naturales</a:t>
            </a: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hormigas son insectos sociales que viven en colonias y que, debido a su colaboración mutua, son capaces de mostrar comportamientos complejos y realizar tareas difíciles desde el punto de vista de una hormiga individua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algoritmos de CDH se inspiran directamente en el comportamiento de las colonias reales de hormigas para solucionar problemas de optimización combinator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nteracción entre sistemas inteligentes</a:t>
            </a:r>
            <a:br>
              <a:rPr sz="4000"/>
            </a:b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interacción entre sistemas inteligentes es un tema intermedio entre sistemas inteligentes aislados y las sociedades, las cuales abarcan una gran cantidad de sistemas inteligentes. Pero tiene un gran valor práctico, porque esto es lo que hacemos diariamente: interactuamos con otros sistemas intelige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24000" y="404280"/>
            <a:ext cx="8640720" cy="6193080"/>
          </a:xfrm>
          <a:prstGeom prst="rect">
            <a:avLst/>
          </a:prstGeom>
          <a:noFill/>
          <a:ln w="0">
            <a:noFill/>
          </a:ln>
        </p:spPr>
        <p:txBody>
          <a:bodyPr lIns="90000" rIns="90000" tIns="46800" bIns="46800" anchor="t">
            <a:noAutofit/>
          </a:bodyPr>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 hormigas, son capaces de seguir la ruta más corta en su camino de ida y vuelta entre la colonia y una fuente de abastecimiento. Esto es debido a que las hormigas pueden "transmitirse información" entre ellas gracias a que cada una de ellas, al desplazarse, va dejando un rastro de una sustancia llamada feromona a lo largo del camino seguido. Así, mientras una hormiga aislada se mueve de forma esencialmente aleatoria, los "agentes" de una colonia de hormigas detectan el rastro de feromona dejado por otras hormigas y tienden a seguir dicho rastro. Éstas a su vez van dejando su propia feromona a lo largo del camino recorrido y por tanto lo hacen más atractivo, puesto que se ha reforzado el rastro de feromona. Sin embargo, la feromona también se va evaporando con el paso del tiempo provocando que el rastro de feromona sufra, por otro lado, cierto debilitamiento. En definitiva, puede decirse que el proceso se caracteriza por una retroalimentación positiva, en la que la probabilidad con la que una hormiga escoge un camino aumenta con el número de hormigas que previamente hayan elegido el mismo camino.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2:53:44Z</dcterms:created>
  <dc:creator>WinuE</dc:creator>
  <dc:description/>
  <dc:language>en-US</dc:language>
  <cp:lastModifiedBy>WinuE</cp:lastModifiedBy>
  <dcterms:modified xsi:type="dcterms:W3CDTF">2007-12-19T18:13:43Z</dcterms:modified>
  <cp:revision>11</cp:revision>
  <dc:subject/>
  <dc:title>Vida Artificial</dc:title>
</cp:coreProperties>
</file>